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7A5A-D33A-45DC-A2E4-9618895D6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E503-BE71-423E-985C-1216B551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AE34-45DE-4A7C-BF62-01B0071D4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A8E4-30D2-44AA-A45A-4FF77A744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668E-F654-4A91-8DB5-8DED5174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7FBA-B48B-40A8-BBF2-8E60FEF2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EB67-8D42-4D0E-8EB4-8692D38B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80CE-6549-466D-8936-E7FF5DDD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40EB-19FD-46F3-B366-36C49B3A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1969-F01F-4AF7-9017-36133E6C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7463-BA6F-44A6-80E4-C6DC2BDD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15E5-CF70-44F5-B43E-ABFCA945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99C9-0BC2-486D-8691-E30EE581C506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Kép 1" descr="DSC00326.JPG"/>
          <p:cNvPicPr/>
          <p:nvPr/>
        </p:nvPicPr>
        <p:blipFill>
          <a:blip r:embed="rId1"/>
          <a:stretch/>
        </p:blipFill>
        <p:spPr>
          <a:xfrm>
            <a:off x="214200" y="428760"/>
            <a:ext cx="8715600" cy="5946480"/>
          </a:xfrm>
          <a:prstGeom prst="rect">
            <a:avLst/>
          </a:prstGeom>
          <a:ln w="0">
            <a:noFill/>
          </a:ln>
        </p:spPr>
      </p:pic>
      <p:sp>
        <p:nvSpPr>
          <p:cNvPr id="42" name="Téglalap 2"/>
          <p:cNvSpPr/>
          <p:nvPr/>
        </p:nvSpPr>
        <p:spPr>
          <a:xfrm>
            <a:off x="1143000" y="2928960"/>
            <a:ext cx="700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2b10e"/>
                </a:solidFill>
                <a:latin typeface="Constantia"/>
              </a:rPr>
              <a:t>Our Neighbourhoo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églalap 3"/>
          <p:cNvSpPr/>
          <p:nvPr/>
        </p:nvSpPr>
        <p:spPr>
          <a:xfrm>
            <a:off x="500040" y="3857760"/>
            <a:ext cx="828684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Bodoni MT Condensed"/>
              </a:rPr>
              <a:t> </a:t>
            </a:r>
            <a:r>
              <a:rPr b="1" lang="hu-HU" sz="4400" spc="-1" strike="noStrike">
                <a:solidFill>
                  <a:srgbClr val="000000"/>
                </a:solidFill>
                <a:latin typeface="Bodoni MT Condensed"/>
                <a:ea typeface="David"/>
              </a:rPr>
              <a:t>Research on the local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Eras Medium ITC"/>
              </a:rPr>
              <a:t>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Eras Medium ITC"/>
              </a:rPr>
              <a:t>20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églalap 4"/>
          <p:cNvSpPr/>
          <p:nvPr/>
        </p:nvSpPr>
        <p:spPr>
          <a:xfrm>
            <a:off x="642960" y="428760"/>
            <a:ext cx="771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2060"/>
                </a:solidFill>
                <a:latin typeface="Constantia"/>
                <a:ea typeface="Dotum"/>
              </a:rPr>
              <a:t>Szent József Katolikus Általános Isk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2060"/>
                </a:solidFill>
                <a:latin typeface="Constantia"/>
                <a:ea typeface="Dotum"/>
              </a:rPr>
              <a:t>Kiskunhalas, Hung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4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Ví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z első mintavételi helyünk a Sóstó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 város északi részén elhelyezkedő szikes tó a Tisza vízgyűjtő területéhez tartozik. Deflációs tó, vagyis természetesen szélfújta mederben keletkezett. A területet homoktalaj borítja, amelyre északkelet-délnyugati irányú lösztakaró rakódott l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8" descr=""/>
          <p:cNvPicPr/>
          <p:nvPr/>
        </p:nvPicPr>
        <p:blipFill>
          <a:blip r:embed="rId1"/>
          <a:srcRect l="2392" t="757" r="31383" b="50262"/>
          <a:stretch/>
        </p:blipFill>
        <p:spPr>
          <a:xfrm>
            <a:off x="4427640" y="1268280"/>
            <a:ext cx="4495680" cy="46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42472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 Sóstó területe 53,3 ha, ennek kb. a fele 28,7 ha nyílt vízterület, a maradék terület náddal borított. A tó átlagos mélysége 1 – 2 m. A csapadék és a talajvíz pótolja elpárolgott vízét, de két mesterséges kutat is fúrtak, melyekre az aszályos időszakokban van szüksé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851280" y="40464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Sóst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Kép 5" descr="Sós-tó.jpg"/>
          <p:cNvPicPr/>
          <p:nvPr/>
        </p:nvPicPr>
        <p:blipFill>
          <a:blip r:embed="rId1"/>
          <a:stretch/>
        </p:blipFill>
        <p:spPr>
          <a:xfrm>
            <a:off x="1984320" y="2922480"/>
            <a:ext cx="5373720" cy="35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57120" y="981000"/>
            <a:ext cx="846288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 tó zöldes színű, megszagolva halak, növények szaga érezhető. A tó vízének szűrőpapíron való átszűrése után a szűrőpapíron többnyire ásványi anyagok és növények maradtak fenn. A tó vize enyhén lúgos kémhatású, ph-ja 8,5-ös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3851280" y="40464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Sóst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Tartalom helye 6" descr="vízvizsgálat.jpg"/>
          <p:cNvPicPr/>
          <p:nvPr/>
        </p:nvPicPr>
        <p:blipFill>
          <a:blip r:embed="rId1"/>
          <a:stretch/>
        </p:blipFill>
        <p:spPr>
          <a:xfrm>
            <a:off x="1643040" y="2598840"/>
            <a:ext cx="5786640" cy="384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539280" y="764640"/>
            <a:ext cx="8218440" cy="593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 XX. század elején a gyógyhatásnak köszönhetően a Sóstó Európa-hírű fürdővíz vol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2005-ben helyi jelentőségű védett területté nyilvánították. A tó és környezete védett növény- és állatfajoknak ad otthont. Ilyenek a növények közül a kisfészkű aszat (Cirsium brachycephalum), a mocsári aggófű (Senecio paludosus), a mocsári kosbor (Orchis laxiflora ssp. palustris), az állatok közül pedig 72 védett, 5 fokozottan védett faj fordul elő a Sóstón és környéké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3924360" y="18900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Sóst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611280" y="3429000"/>
            <a:ext cx="33112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 tavat és élővilágát             veszélyeztető tényezők közé tartoznak az emberi székletből származó baktériumok, illegális szennyvízelvezetők, intenzív horgászat, mezőgazdasági művelésből származó növényvédőszer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Kép 7" descr="kócsagos.jpg"/>
          <p:cNvPicPr/>
          <p:nvPr/>
        </p:nvPicPr>
        <p:blipFill>
          <a:blip r:embed="rId1"/>
          <a:stretch/>
        </p:blipFill>
        <p:spPr>
          <a:xfrm>
            <a:off x="3714840" y="3214800"/>
            <a:ext cx="4786200" cy="317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Ví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A második mintavételi helyünk: Dongéri-főcsato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z 1940–42-es évek különösen magas vízállása jelentős károkat okozott, és ezért az 1950-es évek első felében megépült a csatorn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 város déli részéről indul először északra, majd a települést megkerülve északkeleti, illetve délkeleti irányba halad tovább és a Tiszába torkollik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Hossza 84 km, vízgyűjtő területe 930 km</a:t>
            </a:r>
            <a:r>
              <a:rPr b="0" lang="hu-H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 Dongéri-csatorna a megépítést követő néhány évtized alatt eliszaposodott, csekély esése miatt a csapadékvizet már alig tudta elvezetni. Ezért még napjainkban is folytatódik a vízrendezé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 GLOBE-csoport folyamatos méréseket végez a csatornán folyamatosan ellenőrizve a víz minőségé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Dongéri-főcsato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Kép 5" descr="dongéri.jpg"/>
          <p:cNvPicPr/>
          <p:nvPr/>
        </p:nvPicPr>
        <p:blipFill>
          <a:blip r:embed="rId1"/>
          <a:stretch/>
        </p:blipFill>
        <p:spPr>
          <a:xfrm>
            <a:off x="1428840" y="1335240"/>
            <a:ext cx="6575400" cy="437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Dongéri-főcsato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4020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 csatornából két helyen vettünk mintát: az iskola közelében fekvő Vásártér mögötti szakaszból és a Kántor-kaszáló előtti részből, ahol a csatornába engedik a termálfürdő melegvizé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5219640" y="407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5076720" y="4076640"/>
            <a:ext cx="40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 két helyen a Csatorna kép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rendkívül eltérő képet mut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Kép 11" descr="Danidongesz.jpg"/>
          <p:cNvPicPr/>
          <p:nvPr/>
        </p:nvPicPr>
        <p:blipFill>
          <a:blip r:embed="rId1"/>
          <a:stretch/>
        </p:blipFill>
        <p:spPr>
          <a:xfrm>
            <a:off x="630360" y="3571920"/>
            <a:ext cx="3968640" cy="2643120"/>
          </a:xfrm>
          <a:prstGeom prst="rect">
            <a:avLst/>
          </a:prstGeom>
          <a:ln w="0">
            <a:noFill/>
          </a:ln>
        </p:spPr>
      </p:pic>
      <p:pic>
        <p:nvPicPr>
          <p:cNvPr id="87" name="Kép 12" descr="dongéritermálos.jpg"/>
          <p:cNvPicPr/>
          <p:nvPr/>
        </p:nvPicPr>
        <p:blipFill>
          <a:blip r:embed="rId2"/>
          <a:stretch/>
        </p:blipFill>
        <p:spPr>
          <a:xfrm>
            <a:off x="4929120" y="1357200"/>
            <a:ext cx="378612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Dongéri-főcsato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7643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 mintavételi helyek eredményei megegyeznek. A víz színe szabad szemmel vizsgálva sötét zöldnek volt mondható. A csatorna vízének a növényi eredetű szagok mellett enyhén szennyvíz szaga volt.  A vízminták szűrése után, a szűrőpapíron főként moszatok maradtak fent és némi ásványi anyag. A csatorna vizének ph-ja 8-as vol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Kép 7" descr="dongeszes.jpg"/>
          <p:cNvPicPr/>
          <p:nvPr/>
        </p:nvPicPr>
        <p:blipFill>
          <a:blip r:embed="rId1"/>
          <a:stretch/>
        </p:blipFill>
        <p:spPr>
          <a:xfrm>
            <a:off x="2068560" y="2944800"/>
            <a:ext cx="521820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428920"/>
            <a:ext cx="8362800" cy="24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Levegő</a:t>
            </a:r>
            <a:br>
              <a:rPr sz="2400"/>
            </a:br>
            <a:br>
              <a:rPr sz="2400"/>
            </a:b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Kiskunhalas és környéke,  az egyik nagy tájunk, az Alföld mérsékelten szennyezett levegőjű területeihez sorolható. A legfőbb szennyező-forrás az 53. számú főút, ahol nitrogén-oxidok, szén-dioxid, ólom és illékony szerves anyagok kerülnek a levegőbe, a szálló por koncentrációja pedig megnő. Az utak menti emisszión kívül meg kell említeni a lakosság téli fűtését is, ennek során jelentős mennyiségű kén-dioxid, nitrogén-dioxid és korom kerül a levegőbe.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Kiskunhalason a Környezetvédelmi Felügyelőség méri az ülepedő por mennyiségét, melynek féléves átlagai jóval kisebbek a határértéknél, a 30 napos időszakokban azonban előfordul, hogy meghaladják az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714240"/>
            <a:ext cx="832968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7f7f7f"/>
                </a:solidFill>
                <a:latin typeface="Dotum"/>
                <a:ea typeface="Dotum"/>
              </a:rPr>
              <a:t>Szent József Katolikus Általános Isko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7f7f7f"/>
                </a:solidFill>
                <a:latin typeface="Dotum"/>
                <a:ea typeface="Dotum"/>
              </a:rPr>
              <a:t>Kiskunhalas, Hung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2124000" y="285840"/>
            <a:ext cx="4552920" cy="63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7"/>
          <p:cNvSpPr/>
          <p:nvPr/>
        </p:nvSpPr>
        <p:spPr>
          <a:xfrm>
            <a:off x="1143000" y="846000"/>
            <a:ext cx="67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Térkép készítése az iskola környékéről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Tartalom helye 4" descr="plakát készítés.jpg"/>
          <p:cNvPicPr/>
          <p:nvPr/>
        </p:nvPicPr>
        <p:blipFill>
          <a:blip r:embed="rId1"/>
          <a:stretch/>
        </p:blipFill>
        <p:spPr>
          <a:xfrm>
            <a:off x="1130400" y="1428840"/>
            <a:ext cx="687060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4349880" y="1216080"/>
            <a:ext cx="23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unka közben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Tartalom helye 6" descr="csoport.jpg"/>
          <p:cNvPicPr/>
          <p:nvPr/>
        </p:nvPicPr>
        <p:blipFill>
          <a:blip r:embed="rId1"/>
          <a:stretch/>
        </p:blipFill>
        <p:spPr>
          <a:xfrm>
            <a:off x="4116240" y="2071800"/>
            <a:ext cx="4719960" cy="3143160"/>
          </a:xfrm>
          <a:prstGeom prst="rect">
            <a:avLst/>
          </a:prstGeom>
          <a:ln w="0">
            <a:noFill/>
          </a:ln>
        </p:spPr>
      </p:pic>
      <p:pic>
        <p:nvPicPr>
          <p:cNvPr id="54" name="Tartalom helye 8" descr="térkép.jpg"/>
          <p:cNvPicPr/>
          <p:nvPr/>
        </p:nvPicPr>
        <p:blipFill>
          <a:blip r:embed="rId2"/>
          <a:stretch/>
        </p:blipFill>
        <p:spPr>
          <a:xfrm>
            <a:off x="500040" y="1500120"/>
            <a:ext cx="31989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7"/>
          <p:cNvSpPr/>
          <p:nvPr/>
        </p:nvSpPr>
        <p:spPr>
          <a:xfrm>
            <a:off x="539640" y="404640"/>
            <a:ext cx="765360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zuzmók a negatív indikátorok közé tartoznak, jelenlétük arra utal, hogy nincs, vagy nagyon alacsony a SO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koncentráció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zuzmók nagyon érzékenyek a légköri kéndioxid-terhelésre. Lassú növekedésük és folyamatos élettevékenységük miatt télen-nyáron felhalmozzák - akkumulálják magukban a szennyező anyagokat, így szervezetük csekély légköri koncentráció esetén is károsodik, elpuszt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611280" y="2781360"/>
            <a:ext cx="2305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További anyagokra érzékenyek: SO2, NOX, ózon, fluorid, növényvédő szer, műtrágya, radioaktív anyag, kló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3115080" y="6264360"/>
            <a:ext cx="44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Közönséges sárgazuzmó – Xanthoria parie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Tartalom helye 6" descr="zuzmo.jpg"/>
          <p:cNvPicPr/>
          <p:nvPr/>
        </p:nvPicPr>
        <p:blipFill>
          <a:blip r:embed="rId1"/>
          <a:stretch/>
        </p:blipFill>
        <p:spPr>
          <a:xfrm>
            <a:off x="3168720" y="2643120"/>
            <a:ext cx="51894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7"/>
          <p:cNvSpPr/>
          <p:nvPr/>
        </p:nvSpPr>
        <p:spPr>
          <a:xfrm>
            <a:off x="928800" y="631800"/>
            <a:ext cx="735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z iskolánk környékén szinte minden fán találtunk zuzmó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Tartalom helye 4" descr="zuzmós.jpg"/>
          <p:cNvPicPr/>
          <p:nvPr/>
        </p:nvPicPr>
        <p:blipFill>
          <a:blip r:embed="rId1"/>
          <a:stretch/>
        </p:blipFill>
        <p:spPr>
          <a:xfrm>
            <a:off x="1136520" y="1500120"/>
            <a:ext cx="686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7"/>
          <p:cNvSpPr/>
          <p:nvPr/>
        </p:nvSpPr>
        <p:spPr>
          <a:xfrm>
            <a:off x="2643120" y="6397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Zuzmó az iskola udvará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Tartalom helye 4" descr="zuzmó az iskola udvarán.jpg"/>
          <p:cNvPicPr/>
          <p:nvPr/>
        </p:nvPicPr>
        <p:blipFill>
          <a:blip r:embed="rId1"/>
          <a:stretch/>
        </p:blipFill>
        <p:spPr>
          <a:xfrm>
            <a:off x="1166760" y="1500120"/>
            <a:ext cx="719136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28920"/>
            <a:ext cx="8362800" cy="24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Víz</a:t>
            </a:r>
            <a:br>
              <a:rPr sz="2000"/>
            </a:b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Kiskunhalas az ország középső részén, két nagy folyó a Duna és a Tisza közötti területen helyezkedik el. Egykoron, a lecsapolások és vízrendezések, Dongéri-főcsatorna megépítése előtt a XX. század közepéig az egész Duna-Tisza közén, ennek értelmében Kiskunhalason is, kiterjedt mocsárvilág volt. Városunk vízrajza napjainkban azonban igen szegényes képet mutat. Kiskunhalas területén mára már csak a Sóstó, valamint a Fejeték láprétje maradt fenn. Nyílt vízfelülettel azonban csak a Sóstó rendelkezi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714240"/>
            <a:ext cx="832968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7f7f7f"/>
                </a:solidFill>
                <a:latin typeface="Dotum"/>
                <a:ea typeface="Dotum"/>
              </a:rPr>
              <a:t>Szent József Katolikus Általános Isko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7f7f7f"/>
                </a:solidFill>
                <a:latin typeface="Dotum"/>
                <a:ea typeface="Dotum"/>
              </a:rPr>
              <a:t>Kiskunhalas, Hung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20:04:18Z</dcterms:created>
  <dc:creator>Julia</dc:creator>
  <dc:description/>
  <dc:language>en-US</dc:language>
  <cp:lastModifiedBy>Julia</cp:lastModifiedBy>
  <dcterms:modified xsi:type="dcterms:W3CDTF">2010-02-09T20:38:08Z</dcterms:modified>
  <cp:revision>46</cp:revision>
  <dc:subject/>
  <dc:title>1. dia</dc:title>
</cp:coreProperties>
</file>